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22EF-DAF2-4911-A51C-733BB5015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6160-7A1C-42D5-881C-9FD68C31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8F00-AF14-4F93-A96B-0070939D4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9C96-48DE-40F3-9203-7EA236248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018F-9977-4FDB-87FD-E741052B7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FFFE-7B62-41D1-B03E-138EF353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99EE-D168-41AD-998A-06AC7D04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F37D-BE23-49A0-A5F2-9255A2DA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0BA0-D589-435F-ACC5-FAF0F8D6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59DC-7DE5-4A30-AEA2-E97E3E0C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FCB7-C0A9-4707-9C43-434C3088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DA4E-9A54-4756-988E-7F487B6E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54D9-2039-4992-9C1E-C2ABFBED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3E2B-25B0-45AB-80B7-9C37556F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CB2E-6DAA-43E3-94FF-8370CD09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F788-CB1B-4FE3-8AE2-5AABD85B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3587-B63F-487E-8F7E-674262ACB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8D05-8C40-44B8-8573-FB605A6D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6364-1A1D-45FA-A2E6-8024FAAF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0948-50E5-4743-8F1F-C0E4441F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88D6-3F59-48D1-BB09-09431C31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B557-C7D9-4DA2-AE6C-2AE1FC08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E959-992B-4EFC-A78D-5810AC39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3092-ED6F-4F9B-9910-07BAE602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1B27-5CD6-4A10-8B31-2953CBE0A6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3655-9A1C-485C-9565-E6C476A8BF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83000" cy="2924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74880" y="333360"/>
            <a:ext cx="6765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CHI E’ IL NATUROPATA?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66880" y="2828880"/>
            <a:ext cx="7377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è il CONSULENTE PER LA SALUTE attraverso l’utilizzo dei rimedi antichi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it-IT" sz="3200" spc="-1" strike="noStrike">
                <a:solidFill>
                  <a:srgbClr val="ffffff"/>
                </a:solidFill>
                <a:latin typeface="Arial"/>
              </a:rPr>
              <a:t>Quelli di una volta…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4000" y="3924360"/>
            <a:ext cx="475272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b7"/>
                </a:solidFill>
                <a:latin typeface="Arial Black"/>
              </a:rPr>
              <a:t>IL NATUROPATA E’ ESPERTO IN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toterap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riterap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meopat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taminologia applic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educazione aliment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equilibrio Energet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96000" y="-28440"/>
            <a:ext cx="3360600" cy="3016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2987640" y="4653000"/>
            <a:ext cx="5832360" cy="20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MEDICINA NATUR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92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80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MEDICINA NATURALE:</a:t>
            </a:r>
            <a:br>
              <a:rPr sz="4400"/>
            </a:br>
            <a:r>
              <a:rPr b="1" lang="en-US" sz="3400" spc="-1" strike="noStrike">
                <a:solidFill>
                  <a:srgbClr val="ffffb7"/>
                </a:solidFill>
                <a:latin typeface="Arial Black"/>
              </a:rPr>
              <a:t>(</a:t>
            </a:r>
            <a:r>
              <a:rPr b="1" i="1" lang="en-US" sz="3400" spc="-1" strike="noStrike">
                <a:solidFill>
                  <a:srgbClr val="ffffb7"/>
                </a:solidFill>
                <a:latin typeface="Arial Black"/>
              </a:rPr>
              <a:t>medicina complementare)</a:t>
            </a:r>
            <a:endParaRPr b="1" lang="en-US" sz="3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248292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basa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MEDI DELLA NATURA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(ERBE OFFICINAL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care LA CAUSA DELLA MALATT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ggere LO STILE DI VIT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molare l’AUTO-GUARIGIONE dell’organismo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(OMEOSTAS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ZIO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68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66"/>
                </a:solidFill>
                <a:latin typeface="Arial Black"/>
              </a:rPr>
              <a:t>IL NATUROPATA possiede una </a:t>
            </a: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“CONOSCENZAOLISTICA”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79280" y="3165120"/>
            <a:ext cx="87854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nei RIMEDI ERBORISTICI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nelle varie DISCIPLINE DI DIAGNOSI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54520"/>
            <a:ext cx="8424720" cy="22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dalla MEDICINA AYURVEDIC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alla MILLENARIA MEDICINA TRADIZIONALE CINE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alle tecniche RIFLESSOLOGICHE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2880000" cy="2745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400" y="115560"/>
            <a:ext cx="838188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ZONE RIFLESSOLOGICHE MAGGIORMENTE ATTIVE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2522520" cy="3573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900760" y="2060640"/>
            <a:ext cx="3135240" cy="4681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763640" y="3927600"/>
            <a:ext cx="40546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21:01:14Z</dcterms:created>
  <dc:creator>User</dc:creator>
  <dc:description/>
  <dc:language>en-US</dc:language>
  <cp:lastModifiedBy>marco</cp:lastModifiedBy>
  <dcterms:modified xsi:type="dcterms:W3CDTF">2013-02-22T08:13:18Z</dcterms:modified>
  <cp:revision>6</cp:revision>
  <dc:subject/>
  <dc:title>CHI E’ IL NATUROPATA?</dc:title>
</cp:coreProperties>
</file>