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EBE3-5D88-4C6B-AAB7-3EE3B2F1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10F-1169-44A7-B91B-D42DBF76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1E5-B99E-4CCB-9B22-CFA2E8EE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A6B-72F6-443E-B9E1-57837EF8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7CC1-8111-4401-A132-45C1CAF7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4F72-00C2-43CB-A4CB-37E59F22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7581-8ECD-4C82-AB67-4D273C3B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84E7-AEEC-4588-983C-050EE1EC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FDFA-49AD-4C9B-BB6F-59471C9A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B7B3-967E-4A66-86EB-5CFA137D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AF9D-EA78-45AD-BAF6-17A75DAE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BA7-7B57-467F-A9A8-260E9153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7E0D-C68D-4305-B04C-E7BD7C99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5EAB-335B-488F-9585-AD360FEC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E068-CC67-4FE3-AF82-E642C91D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F446-AE6B-44F9-88A4-7D5B3F58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0550-15C9-4796-9B2D-148CE1A9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5B7-7FBA-4674-9636-10571CC8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E7F-6212-4ECC-9767-5E4D3E52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E438-15A7-4933-AE10-526AE484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8B94-0FEB-48EE-9A0E-CE7C00EE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FBD-BD4E-479F-B5E8-ECC303E7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EEB-99E6-4430-814F-67C4E45A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A1E-32EB-4017-9B55-C5849013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1B2B-3E47-4AD7-A37F-42A349FDAA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3C66-46C8-4B36-9939-20A7650F64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OS’E’ L’INTOLLERANZA ALIMENTARE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01680" y="2800440"/>
          <a:ext cx="4191120" cy="217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1680" y="2800440"/>
                    <a:ext cx="419112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’ una piaga oggi in crescita de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taliani su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ne soff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332000" y="3357720"/>
          <a:ext cx="6367320" cy="338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3357720"/>
                    <a:ext cx="636732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INTOMI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114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NFIORI e SOVRAPP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CHEZ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 DI TESTA 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termittenti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BIOSI INTESTINA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HI INFIAMM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TICARIE e ERUZIONI CUTAN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FFREDDORI CONTINUI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muco abbondan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RGIE e INTOLLERANZE ALIMENTA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950160" y="4508640"/>
            <a:ext cx="2193840" cy="2923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368520" y="4724280"/>
            <a:ext cx="1851120" cy="2189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195880" y="4221000"/>
            <a:ext cx="2112840" cy="2113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516720" y="333360"/>
            <a:ext cx="2627280" cy="1932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350040" y="2421000"/>
            <a:ext cx="2543040" cy="190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4506840" y="620640"/>
            <a:ext cx="2370240" cy="3529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3276720" y="189000"/>
            <a:ext cx="19605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di INTOLLERANZA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i può guarire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e soprattutto si guarisce </a:t>
            </a:r>
            <a:r>
              <a:rPr b="0" lang="en-US" sz="4000" spc="-1" strike="noStrike" u="sng">
                <a:solidFill>
                  <a:srgbClr val="b7e7ff"/>
                </a:solidFill>
                <a:uFillTx/>
                <a:latin typeface="Arial"/>
              </a:rPr>
              <a:t>mangiando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e </a:t>
            </a:r>
            <a:r>
              <a:rPr b="0" lang="en-US" sz="4000" spc="-1" strike="noStrike" u="sng">
                <a:solidFill>
                  <a:srgbClr val="b7e7ff"/>
                </a:solidFill>
                <a:uFillTx/>
                <a:latin typeface="Arial"/>
              </a:rPr>
              <a:t>integrando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dei NUTRIENTI vitali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52360" y="350028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Minerali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e 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Vitamine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presenti in FRUTTA e VERDURA fresc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541440" y="3645000"/>
            <a:ext cx="4392720" cy="2971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740720" y="472428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6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6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OLLERANZA E’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71640" y="2473200"/>
            <a:ext cx="3961080" cy="3837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4920" y="3500280"/>
            <a:ext cx="2643120" cy="3113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604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’IMPOSSIBILITA’ DI METABOLIZZ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DIGERIRE UN CIBO CORRETT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481800" y="3284640"/>
            <a:ext cx="24112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OLLERANZA E’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268280"/>
            <a:ext cx="820728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ANDO UN ORGANISMO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N TOLLERA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iù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LIMENT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venta u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Times New Roman"/>
              </a:rPr>
              <a:t>ALLERGEN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(Considerato ESTRANEO e NOC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dal SISTEMA IMMUNITARIO)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866920" y="3357360"/>
            <a:ext cx="2304720" cy="863640"/>
          </a:xfrm>
          <a:custGeom>
            <a:avLst/>
            <a:gdLst>
              <a:gd name="textAreaLeft" fmla="*/ 0 w 2304720"/>
              <a:gd name="textAreaRight" fmla="*/ 2305080 w 230472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47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ALLERGENE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E’ UNA SOSTANZA IN GRADO DI PROVOCARE </a:t>
            </a:r>
            <a:br>
              <a:rPr sz="4000"/>
            </a:b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ALLERGIA</a:t>
            </a: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237360" y="3573360"/>
            <a:ext cx="2798640" cy="3024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4960" y="3573360"/>
            <a:ext cx="5891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Times New Roman"/>
              </a:rPr>
              <a:t>O REPULSIONE </a:t>
            </a:r>
            <a:br>
              <a:rPr sz="2800"/>
            </a:br>
            <a:r>
              <a:rPr b="1" lang="en-US" sz="2800" spc="-1" strike="noStrike">
                <a:solidFill>
                  <a:srgbClr val="b7e7ff"/>
                </a:solidFill>
                <a:latin typeface="Times New Roman"/>
              </a:rPr>
              <a:t>VERSO QUALCOSA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b7e7ff"/>
                </a:solidFill>
                <a:latin typeface="Times New Roman"/>
              </a:rPr>
              <a:t>SPESSO VERSO UN CIBO CHE CI PIACE MOLTISSIM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(crea effetto dipendenz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12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62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78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38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ffff00"/>
                </a:solidFill>
                <a:latin typeface="Arial"/>
              </a:rPr>
              <a:t>DI INTOLLERANZA </a:t>
            </a:r>
            <a:br>
              <a:rPr sz="5000"/>
            </a:br>
            <a:r>
              <a:rPr b="0" lang="it-IT" sz="5000" spc="-1" strike="noStrike">
                <a:solidFill>
                  <a:srgbClr val="ffff00"/>
                </a:solidFill>
                <a:latin typeface="Arial"/>
              </a:rPr>
              <a:t>SI PUO’ GUARIRE…</a:t>
            </a:r>
            <a:br>
              <a:rPr sz="5000"/>
            </a:br>
            <a:br>
              <a:rPr sz="1600"/>
            </a:b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2060640"/>
            <a:ext cx="820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7e7ff"/>
                </a:solidFill>
                <a:latin typeface="Times New Roman"/>
              </a:rPr>
              <a:t>E SOPRATTUTTO </a:t>
            </a:r>
            <a:br>
              <a:rPr sz="4400"/>
            </a:br>
            <a:r>
              <a:rPr b="1" lang="it-IT" sz="4400" spc="-1" strike="noStrike">
                <a:solidFill>
                  <a:srgbClr val="b7e7ff"/>
                </a:solidFill>
                <a:latin typeface="Times New Roman"/>
              </a:rPr>
              <a:t>SI PUO’ GUARIRE </a:t>
            </a:r>
            <a:br>
              <a:rPr sz="4400"/>
            </a:br>
            <a:r>
              <a:rPr b="1" lang="it-IT" sz="4400" spc="-1" strike="noStrike">
                <a:solidFill>
                  <a:srgbClr val="b7e7ff"/>
                </a:solidFill>
                <a:latin typeface="Times New Roman"/>
              </a:rPr>
              <a:t>SENZA ASPETTARE </a:t>
            </a:r>
            <a:br>
              <a:rPr sz="4400"/>
            </a:br>
            <a:r>
              <a:rPr b="1" lang="it-IT" sz="4400" spc="-1" strike="noStrike">
                <a:solidFill>
                  <a:srgbClr val="b7e7ff"/>
                </a:solidFill>
                <a:latin typeface="Times New Roman"/>
              </a:rPr>
              <a:t>DI PEGGIORARE </a:t>
            </a:r>
            <a:br>
              <a:rPr sz="4400"/>
            </a:br>
            <a:r>
              <a:rPr b="1" lang="it-IT" sz="4400" spc="-1" strike="noStrike">
                <a:solidFill>
                  <a:srgbClr val="b7e7ff"/>
                </a:solidFill>
                <a:latin typeface="Times New Roman"/>
              </a:rPr>
              <a:t>LA SITUAZIONE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49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b7e7ff"/>
                </a:solidFill>
                <a:latin typeface="Arial"/>
              </a:rPr>
              <a:t>…</a:t>
            </a:r>
            <a:r>
              <a:rPr b="0" lang="it-IT" sz="4800" spc="-1" strike="noStrike">
                <a:solidFill>
                  <a:srgbClr val="b7e7ff"/>
                </a:solidFill>
                <a:latin typeface="Arial"/>
              </a:rPr>
              <a:t>AIUTIAMOCI </a:t>
            </a:r>
            <a:br>
              <a:rPr sz="4800"/>
            </a:br>
            <a:r>
              <a:rPr b="0" lang="it-IT" sz="4800" spc="-1" strike="noStrike">
                <a:solidFill>
                  <a:srgbClr val="b7e7ff"/>
                </a:solidFill>
                <a:latin typeface="Arial"/>
              </a:rPr>
              <a:t>con rimedi naturali</a:t>
            </a:r>
            <a:br>
              <a:rPr sz="4800"/>
            </a:br>
            <a:br>
              <a:rPr sz="4800"/>
            </a:br>
            <a:r>
              <a:rPr b="0" lang="it-IT" sz="4800" spc="-1" strike="noStrike">
                <a:solidFill>
                  <a:srgbClr val="b7e7ff"/>
                </a:solidFill>
                <a:latin typeface="Arial"/>
              </a:rPr>
              <a:t>affidiamoci ai consigli del </a:t>
            </a:r>
            <a:r>
              <a:rPr b="0" lang="it-IT" sz="4800" spc="-1" strike="noStrike">
                <a:solidFill>
                  <a:srgbClr val="ffff00"/>
                </a:solidFill>
                <a:latin typeface="Arial"/>
              </a:rPr>
              <a:t>NATUROPATA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20:54:37Z</dcterms:created>
  <dc:creator>User</dc:creator>
  <dc:description/>
  <dc:language>en-US</dc:language>
  <cp:lastModifiedBy>User</cp:lastModifiedBy>
  <dcterms:modified xsi:type="dcterms:W3CDTF">2012-03-15T23:24:55Z</dcterms:modified>
  <cp:revision>3</cp:revision>
  <dc:subject/>
  <dc:title>COS’E’ L’INTOLLERANZA</dc:title>
</cp:coreProperties>
</file>